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0CD-AB8D-4501-A3A0-928432C4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D8E-EA2F-475D-BB50-AE2609F7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4FE-EBA9-4D39-9E67-31E54A68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287-66D1-4304-AAFB-3CBA61C2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BF4-014B-42C4-8D14-7EB78F45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91E-7747-4156-8BA5-6744C55E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3705-4CB6-4302-8FFA-60CF0774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E026-2CD5-4138-AADD-B7AAB3EC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E12-AB22-432E-BDE0-E68B0CA7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C93-4350-4DEB-89CB-CE3C1019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499-669A-4E4A-8FB2-5A0639DA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652F-7B7C-4CF9-8F78-C40B425B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7214-887B-4C1C-A3D7-5094A3274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ravelblog.org/Photos/1789908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travelblog.org/Photos/1789908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://www.travelblog.org/Photos/1789908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th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172200" cy="49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705720" cy="44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47920" y="1293840"/>
            <a:ext cx="655308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i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47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8580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g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the secret lago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360" y="4428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the secret lago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360" y="4428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the secret lago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1447920" y="1200240"/>
            <a:ext cx="6476760" cy="486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2940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248160" cy="46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010640" cy="40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ins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0292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5:53:14Z</dcterms:created>
  <dc:creator>netadmin8</dc:creator>
  <dc:description/>
  <dc:language>en-US</dc:language>
  <cp:lastModifiedBy>netadmin8</cp:lastModifiedBy>
  <dcterms:modified xsi:type="dcterms:W3CDTF">2012-10-05T18:25:59Z</dcterms:modified>
  <cp:revision>4</cp:revision>
  <dc:subject/>
  <dc:title>Isthmus</dc:title>
</cp:coreProperties>
</file>